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jpeg" ContentType="image/jpeg"/>
  <Override PartName="/ppt/media/image10.pct" ContentType="image/x-pict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2BB6-A6C3-43EF-A58C-DB63DC49F1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15E05-9434-47FD-83F4-023A452B6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09CD-E5E6-4D04-A901-633CBD8DE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6A68-F3AD-4296-A644-011995B8DE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 shh mutants have some but not all characteristics of holoprosencephaly.  Oep mutants do.  Now know that Nodal is upstream regulator of Shh.  Oep is cofactor required for Nodal signaling and a target for therapeutic treatment of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C31E-2485-4257-AAA6-228A58A7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2026-EDE9-4515-9FDC-DC7BB8F7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052-A4A8-4F8D-8274-C3221182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50F3-59A5-4FD3-8C68-A5CCC44A7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14A8-118E-4F0A-A4A5-AE816A12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6AD-6D2A-4C78-A19C-CDEF7896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3696-B9D6-423F-853C-04E19554E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9E0-3B85-4F12-92D3-6650621D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3DA-3647-408B-ADE0-8C40639E3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A90C-6CE6-4D24-959E-C4133672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3EB-65EA-4AAD-9CCF-CD9961DF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3F0-21E4-47D0-B42B-69776978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BD3D-4327-4CDE-9474-234CCAFC6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Linking Anim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dels to Human Dis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90280" y="617220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54936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5493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5480" y="3079800"/>
            <a:ext cx="4039560" cy="320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79800"/>
            <a:ext cx="3098880" cy="3183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77080" y="39006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908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3360" y="316872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aracter 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8120"/>
            <a:ext cx="8305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or disease)  =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holo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0240" y="2476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1680" y="247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2635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ep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044720"/>
          <a:ext cx="8001000" cy="588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4720"/>
                    <a:ext cx="8001000" cy="588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80880" y="1397160"/>
          <a:ext cx="8382240" cy="360972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0,3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assigned human ortholo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8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1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m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ZFIN mutant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Corresponding huma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Drosophil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homologs of these 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6920" y="976320"/>
            <a:ext cx="77702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urier New"/>
                <a:ea typeface="ＭＳ Ｐゴシック"/>
              </a:rPr>
              <a:t>PATO developmen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est curation of zebrafish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nitial curation of phen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200 zebrafish mutations(Tübingen, 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orpholino phenotypes (Univ. of Minnes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400 Medaka mutations (Kyo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ffff"/>
              </a:buClr>
              <a:buFont typeface="Couri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CToL - taxonomy &amp; phyloge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BO-discuss email list for discu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954080"/>
            <a:ext cx="6324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elissa Haendel -anatomy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g Howe -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k Segerdell - P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ierra Taylor - 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295280" y="5410080"/>
            <a:ext cx="6782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niversity of Oregon, Eugene, Ore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1480" y="99072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549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1-18T02:00:04Z</cp:lastPrinted>
  <dcterms:modified xsi:type="dcterms:W3CDTF">2005-11-19T00:33:27Z</dcterms:modified>
  <cp:revision>88</cp:revision>
  <dc:subject/>
  <dc:title>Ontologies for Gene Expression and Phenotypes</dc:title>
</cp:coreProperties>
</file>